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E0A634-7B40-432B-9414-D8B7DA50DE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B3F48D-CE33-48CA-B2F4-0121FA80B4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Copyright 2011 Daryl Cagle - All Rights Reser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C7BE76-83C8-45A4-AD2F-8D5AC44EAD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Copyright 2011 Arend van Dam - All Rights Reserv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A090DB-5077-426C-A0F6-0670B0DED4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3D50-E5D8-4A12-B6FB-CBCD675E8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C052-2790-4458-91E4-0B516203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F121-7FB8-447C-9C63-38B925B1D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E2AB-E075-42BA-8790-9140DA883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4634-2BDD-4B4F-A1AD-90D0193B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38E9-5042-4C1A-B103-DC527144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6193-B7AF-49A9-9F63-3D07014E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2254-66A2-4D2F-9EAA-21E505FB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C352-5EAD-4625-AAE8-9DFF23C7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5B79-E152-4BAA-8B64-FF557FEF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E35C-73A5-4610-9732-4488785E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5186-C4F5-4AF2-BCCB-6D5E5277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98D6FF-4A73-4359-B3A8-706483E298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152E20-6387-4617-A315-F7D3417FEA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1643-ObamaConsidersE.tif"/>
          <p:cNvPicPr/>
          <p:nvPr/>
        </p:nvPicPr>
        <p:blipFill>
          <a:blip r:embed="rId1"/>
          <a:stretch/>
        </p:blipFill>
        <p:spPr>
          <a:xfrm>
            <a:off x="291960" y="237960"/>
            <a:ext cx="849492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3" descr="Mubarak(ChaosThreat).jpg"/>
          <p:cNvPicPr/>
          <p:nvPr/>
        </p:nvPicPr>
        <p:blipFill>
          <a:blip r:embed="rId1"/>
          <a:srcRect l="-10593" t="0" r="-10593" b="0"/>
          <a:stretch/>
        </p:blipFill>
        <p:spPr>
          <a:xfrm>
            <a:off x="-853920" y="512640"/>
            <a:ext cx="10864800" cy="59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20:10:06Z</dcterms:created>
  <dc:creator>sbechtel</dc:creator>
  <dc:description/>
  <dc:language>en-US</dc:language>
  <cp:lastModifiedBy>Jillian McGuire</cp:lastModifiedBy>
  <dcterms:modified xsi:type="dcterms:W3CDTF">2011-02-03T19:57:55Z</dcterms:modified>
  <cp:revision>2</cp:revision>
  <dc:subject/>
  <dc:title>Slide 1</dc:title>
</cp:coreProperties>
</file>